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his%20is%20Jeopardy.wav" ContentType="audio/x-wav"/>
  <Override PartName="/ppt/media/image3.wmf" ContentType="image/x-wmf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F582-A049-4ABF-B81C-E301AF77B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C8D1-8150-4AAF-958C-BA54BAAD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F446-293B-4D22-8B79-502CCA352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FE71-2E58-4947-854A-436F2A8DB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4D1C-6576-4F55-9F67-8AE2935F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8E52-44C7-4B20-A62F-D0689083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F1DC-A07D-43B8-A659-7582F97B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81C4-1666-48B4-AD37-7EFFD240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B9FE-6F13-4DC4-B319-E5BCB51D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33B3-AAE7-4751-92B0-0895DCC6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532D-455C-4816-A1FF-260F11D7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4F13-D9E8-4591-9D7E-43D63D3B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1FC0-EBD3-42AF-BC54-30BD3BBE812D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.xml"/><Relationship Id="rId3" Type="http://schemas.openxmlformats.org/officeDocument/2006/relationships/audio" Target="../media/This%20is%20Jeopardy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"/><Relationship Id="rId6" Type="http://schemas.openxmlformats.org/officeDocument/2006/relationships/slide" Target="slide29.xml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4.xml"/><Relationship Id="rId11" Type="http://schemas.openxmlformats.org/officeDocument/2006/relationships/slide" Target="slide19.xml"/><Relationship Id="rId12" Type="http://schemas.openxmlformats.org/officeDocument/2006/relationships/slide" Target="slide24.xml"/><Relationship Id="rId13" Type="http://schemas.openxmlformats.org/officeDocument/2006/relationships/slide" Target="slide10.xml"/><Relationship Id="rId14" Type="http://schemas.openxmlformats.org/officeDocument/2006/relationships/slide" Target="slide15.xml"/><Relationship Id="rId15" Type="http://schemas.openxmlformats.org/officeDocument/2006/relationships/slide" Target="slide20.xml"/><Relationship Id="rId16" Type="http://schemas.openxmlformats.org/officeDocument/2006/relationships/slide" Target="slide25.xml"/><Relationship Id="rId17" Type="http://schemas.openxmlformats.org/officeDocument/2006/relationships/slide" Target="slide11.xml"/><Relationship Id="rId18" Type="http://schemas.openxmlformats.org/officeDocument/2006/relationships/slide" Target="slide12.xml"/><Relationship Id="rId19" Type="http://schemas.openxmlformats.org/officeDocument/2006/relationships/slide" Target="slide13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slide" Target="slide26.xml"/><Relationship Id="rId23" Type="http://schemas.openxmlformats.org/officeDocument/2006/relationships/slide" Target="slide17.xml"/><Relationship Id="rId24" Type="http://schemas.openxmlformats.org/officeDocument/2006/relationships/slide" Target="slide22.xml"/><Relationship Id="rId25" Type="http://schemas.openxmlformats.org/officeDocument/2006/relationships/slide" Target="slide27.xml"/><Relationship Id="rId26" Type="http://schemas.openxmlformats.org/officeDocument/2006/relationships/slide" Target="slide18.xml"/><Relationship Id="rId27" Type="http://schemas.openxmlformats.org/officeDocument/2006/relationships/slide" Target="slide23.xml"/><Relationship Id="rId28" Type="http://schemas.openxmlformats.org/officeDocument/2006/relationships/slide" Target="slide28.xml"/><Relationship Id="rId29" Type="http://schemas.openxmlformats.org/officeDocument/2006/relationships/slide" Target=""/><Relationship Id="rId30" Type="http://schemas.openxmlformats.org/officeDocument/2006/relationships/image" Target="../media/image2.png"/><Relationship Id="rId31" Type="http://schemas.openxmlformats.org/officeDocument/2006/relationships/slide" Target=""/><Relationship Id="rId3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04920"/>
            <a:ext cx="67820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eopar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3200400"/>
            <a:ext cx="838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Choose a category.  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will be given the answer.  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must give the correct question.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5867280" y="53341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" action="ppaction://hlinksldjump"/>
              </a:rPr>
              <a:t>Click to begin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is%20is%20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1295280"/>
            <a:ext cx="769608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9933"/>
                </a:solidFill>
                <a:latin typeface="Times New Roman"/>
              </a:rPr>
              <a:t>The part of an atom that contains protons and neutrons.</a:t>
            </a:r>
            <a:endParaRPr b="0" lang="en-US" sz="6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066680"/>
            <a:ext cx="79246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The negatively charged part of an atom.</a:t>
            </a:r>
            <a:endParaRPr b="0" lang="en-US" sz="6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6002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I am known as the  father of the periodic table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90512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Law of Conservation of Mass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82880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I provide students with a common experience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13716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I get student's minds focused on the topic through a short question or a picture.</a:t>
            </a:r>
            <a:endParaRPr b="0" lang="en-US" sz="5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447920"/>
            <a:ext cx="7925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This portion of the lesson is where the concepts are taught and clarified.</a:t>
            </a:r>
            <a:endParaRPr b="0" lang="en-US" sz="5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1752480"/>
            <a:ext cx="807696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9933"/>
                </a:solidFill>
                <a:latin typeface="Times New Roman"/>
              </a:rPr>
              <a:t>During this portion of the lesson, students apply the information learned during the Explain</a:t>
            </a: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. </a:t>
            </a:r>
            <a:endParaRPr b="0" lang="en-US" sz="5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828800"/>
            <a:ext cx="807696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9933"/>
                </a:solidFill>
                <a:latin typeface="Times New Roman"/>
              </a:rPr>
              <a:t>I am used to assess whether students have learned the concept.</a:t>
            </a:r>
            <a:endParaRPr b="0" lang="en-US" sz="5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838080"/>
            <a:ext cx="784872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9933"/>
                </a:solidFill>
                <a:latin typeface="Times New Roman"/>
              </a:rPr>
              <a:t>A swimming pool is 30 feet long, 15 feet wide, and 8 feet deep.  The owner wants a pool cover that will keep the dirt and leaves out of the water.  The cover must be large enough to cover an area of…</a:t>
            </a:r>
            <a:endParaRPr b="0" lang="en-US" sz="45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23880" y="198108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5562720" y="4724280"/>
            <a:ext cx="2971800" cy="175284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36618" h="21600">
                <a:moveTo>
                  <a:pt x="0" y="0"/>
                </a:moveTo>
                <a:lnTo>
                  <a:pt x="36618" y="0"/>
                </a:lnTo>
                <a:lnTo>
                  <a:pt x="36618" y="21600"/>
                </a:lnTo>
                <a:lnTo>
                  <a:pt x="0" y="21600"/>
                </a:lnTo>
                <a:close/>
              </a:path>
              <a:path fill="lightenLess" w="36618" h="21600">
                <a:moveTo>
                  <a:pt x="0" y="0"/>
                </a:moveTo>
                <a:lnTo>
                  <a:pt x="36618" y="0"/>
                </a:lnTo>
                <a:lnTo>
                  <a:pt x="35218" y="1400"/>
                </a:lnTo>
                <a:lnTo>
                  <a:pt x="1400" y="1400"/>
                </a:lnTo>
                <a:close/>
              </a:path>
              <a:path fill="darken" w="36618" h="21600">
                <a:moveTo>
                  <a:pt x="36618" y="0"/>
                </a:moveTo>
                <a:lnTo>
                  <a:pt x="36618" y="21600"/>
                </a:lnTo>
                <a:lnTo>
                  <a:pt x="35218" y="20200"/>
                </a:lnTo>
                <a:lnTo>
                  <a:pt x="35218" y="1400"/>
                </a:lnTo>
                <a:close/>
              </a:path>
              <a:path fill="darkenLess" w="36618" h="21600">
                <a:moveTo>
                  <a:pt x="36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18" y="20200"/>
                </a:lnTo>
                <a:close/>
              </a:path>
              <a:path fill="lighten" w="36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Click here for Final Jeopard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609480"/>
            <a:ext cx="7848720" cy="71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9933"/>
                </a:solidFill>
                <a:latin typeface="Times New Roman"/>
              </a:rPr>
              <a:t>Mrs. O’Dell-Thomas wants to buy grass seed for a rectangular area that measures 8.5 meters by 5.5 meters.  One package of grass seed  will cover 10 square meters.  How many whole packages of grass seed should Mrs. O’Dell-Thomas buy to cover the area?</a:t>
            </a:r>
            <a:endParaRPr b="0" lang="en-US" sz="4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762120"/>
            <a:ext cx="761976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9933"/>
                </a:solidFill>
                <a:latin typeface="Times New Roman"/>
              </a:rPr>
              <a:t>A flagpole stands in the exact center of a circular plaza.  The distance from the flagpole to the outer edge of the plaza is 20 feet. What is the approximate area of the plaza?</a:t>
            </a:r>
            <a:endParaRPr b="0" lang="en-US" sz="45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609480"/>
            <a:ext cx="81532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9933"/>
                </a:solidFill>
                <a:latin typeface="Times New Roman"/>
              </a:rPr>
              <a:t>A prism and a pyramid have congruent bases and the same height.  What is the ratio of the volume of the pyramid to the prism?</a:t>
            </a:r>
            <a:endParaRPr b="0" lang="en-US" sz="46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838080"/>
            <a:ext cx="7925040" cy="52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9933"/>
                </a:solidFill>
                <a:latin typeface="Times New Roman"/>
              </a:rPr>
              <a:t>A cylindrical oatmeal container with a radius of 4 centimeters and a height of 11 centimeters is half filled with oatmeal.  What is the volume of the oatmeal in the container?</a:t>
            </a:r>
            <a:endParaRPr b="0" lang="en-US" sz="45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16765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685800"/>
            <a:ext cx="7848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An artist made a drawing of a house  with a tree next to it.  The drawing is the size of the actual house and tree.  The tallest point of the house is 12 feet and 8 inches, and the tree is 27 feet tall.  How many inches tall is the tree in the drawing?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59364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9933"/>
                </a:solidFill>
                <a:latin typeface="Times New Roman"/>
              </a:rPr>
              <a:t>A class consists of 8 freshmen  and 22 sophomores.  Freshmen had an average of x points, while sophomores had an average of y points.  Write an expression  that gives the average test score per student for the entire class.</a:t>
            </a:r>
            <a:endParaRPr b="0" lang="en-US" sz="45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534520" y="1219320"/>
            <a:ext cx="228600" cy="4876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295280"/>
            <a:ext cx="784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9933"/>
                </a:solidFill>
                <a:latin typeface="Times New Roman"/>
              </a:rPr>
              <a:t>Jake’s square backyard covers</a:t>
            </a:r>
            <a:endParaRPr b="0" lang="en-US" sz="45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9933"/>
                </a:solidFill>
                <a:latin typeface="Times New Roman"/>
              </a:rPr>
              <a:t>an area of 104 square meters.</a:t>
            </a:r>
            <a:endParaRPr b="0" lang="en-US" sz="45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9933"/>
                </a:solidFill>
                <a:latin typeface="Times New Roman"/>
              </a:rPr>
              <a:t>How can Jake best determine </a:t>
            </a:r>
            <a:endParaRPr b="0" lang="en-US" sz="45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9933"/>
                </a:solidFill>
                <a:latin typeface="Times New Roman"/>
              </a:rPr>
              <a:t>the length of each side of his</a:t>
            </a:r>
            <a:endParaRPr b="0" lang="en-US" sz="45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9933"/>
                </a:solidFill>
                <a:latin typeface="Times New Roman"/>
              </a:rPr>
              <a:t>backyard?  </a:t>
            </a:r>
            <a:endParaRPr b="0" lang="en-US" sz="45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4382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16002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When y = x</a:t>
            </a:r>
            <a:r>
              <a:rPr b="1" lang="en-US" sz="5400" spc="-1" strike="noStrike" baseline="30000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, what is equivalent to x</a:t>
            </a:r>
            <a:r>
              <a:rPr b="1" lang="en-US" sz="5400" spc="-1" strike="noStrike" baseline="30000">
                <a:solidFill>
                  <a:srgbClr val="ff9933"/>
                </a:solidFill>
                <a:latin typeface="Times New Roman"/>
              </a:rPr>
              <a:t>12</a:t>
            </a:r>
            <a:endParaRPr b="0" lang="en-US" sz="5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762120"/>
            <a:ext cx="784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9933"/>
                </a:solidFill>
                <a:latin typeface="Times New Roman"/>
              </a:rPr>
              <a:t>Wayne wanted to buy a new </a:t>
            </a:r>
            <a:endParaRPr b="0" lang="en-US" sz="45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9933"/>
                </a:solidFill>
                <a:latin typeface="Times New Roman"/>
              </a:rPr>
              <a:t>bicycle that cost $125.  The sales tax on the bicycle was $11.25.  What was the rate of the sales tax?</a:t>
            </a:r>
            <a:endParaRPr b="0" lang="en-US" sz="45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66680" y="175248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0" name=""/>
          <p:cNvSpPr/>
          <p:nvPr/>
        </p:nvSpPr>
        <p:spPr>
          <a:xfrm>
            <a:off x="4191120" y="510552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Make your wager</a:t>
            </a:r>
            <a:endParaRPr b="0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>
            <a:hlinkClick r:id="rId1" action="ppaction://hlinksldjump"/>
          </p:cNvPr>
          <p:cNvSpPr/>
          <p:nvPr/>
        </p:nvSpPr>
        <p:spPr>
          <a:xfrm>
            <a:off x="18288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Let’s get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Physica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54864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Wow what a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Figur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734364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Alge “BRA”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4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5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7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8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9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0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1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34364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2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3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4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5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4364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6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7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8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9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0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1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4364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2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3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864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4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4364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5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76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6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7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4364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8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">
            <a:hlinkClick r:id="rId29" action="ppaction://hlinksldjump"/>
          </p:cNvPr>
          <p:cNvSpPr/>
          <p:nvPr/>
        </p:nvSpPr>
        <p:spPr>
          <a:xfrm>
            <a:off x="36576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Pegagog “E”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0"/>
          <a:stretch/>
        </p:blipFill>
        <p:spPr>
          <a:xfrm>
            <a:off x="68580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rId31" action="ppaction://hlinksldjump"/>
          </p:cNvPr>
          <p:cNvSpPr/>
          <p:nvPr/>
        </p:nvSpPr>
        <p:spPr>
          <a:xfrm>
            <a:off x="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Mother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Natur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4" name="">
            <a:hlinkClick r:id="" action="ppaction://hlinkshowjump?jump=las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37160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Father of the Genetics?</a:t>
            </a:r>
            <a:endParaRPr b="0" lang="en-US" sz="5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31573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1573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31573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2133720"/>
            <a:ext cx="7848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9933"/>
                </a:solidFill>
                <a:latin typeface="Times New Roman"/>
              </a:rPr>
              <a:t>What is a hypothesis?</a:t>
            </a:r>
            <a:endParaRPr b="0" lang="en-US" sz="75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scientific inquiry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goggles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observations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data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atoms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scientific inquiry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safety goggles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observations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213372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theory that needs to be tested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data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atoms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nucleus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n electron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o is Demitir Mendeleev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21337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matter can neither be created or destroyed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Explore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Engage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Explain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Elaborate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600200"/>
            <a:ext cx="7467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The use of scientific methods, critical thinking and scientific problem solving to make informed decisions.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Evaluate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450 square feet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5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1256 square feet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1:3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88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6705720" y="2286000"/>
          <a:ext cx="1752480" cy="86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05720" y="2286000"/>
                    <a:ext cx="175248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18 inches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2133720"/>
            <a:ext cx="7848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8x+22y 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          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30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581280"/>
            <a:ext cx="3429000" cy="0"/>
          </a:xfrm>
          <a:prstGeom prst="line">
            <a:avLst/>
          </a:prstGeom>
          <a:ln w="540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9144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find the square root of the area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y</a:t>
            </a:r>
            <a:r>
              <a:rPr b="1" lang="en-US" sz="7200" spc="-1" strike="noStrike" baseline="30000">
                <a:solidFill>
                  <a:srgbClr val="ff9933"/>
                </a:solidFill>
                <a:latin typeface="Times New Roman"/>
              </a:rPr>
              <a:t>4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609480"/>
            <a:ext cx="746748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Safety equipment used to protect the eyes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9%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Final Question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52388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use of the senses to describe an experiment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144792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Information that is gathered while performing an experiment.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60948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smallest particle of matter that has the properties of the element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6:42:31Z</dcterms:created>
  <dc:creator>Valued Customer</dc:creator>
  <dc:description/>
  <dc:language>en-US</dc:language>
  <cp:lastModifiedBy>HISD</cp:lastModifiedBy>
  <dcterms:modified xsi:type="dcterms:W3CDTF">2009-01-27T18:24:17Z</dcterms:modified>
  <cp:revision>41</cp:revision>
  <dc:subject/>
  <dc:title>No Slide Title</dc:title>
</cp:coreProperties>
</file>